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1.wmf" ContentType="image/x-wmf"/>
  <Override PartName="/ppt/media/image20.jpeg" ContentType="image/jpe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08F-F734-411A-87B7-28DE0CCE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98E-C8AE-4D2F-8F9B-1CA48E26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093-CCF7-469F-8673-0CCBE335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BBF-1201-417E-BC6B-3DB0A214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2E0-7644-4A4B-A4EA-1441E106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CFC-0967-40F6-AFBA-13DD0EBF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2BA-E3D8-4F8B-8764-D875FA6F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10B-E9F6-4A09-8501-828197A6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963-B9F7-4D26-A6A1-AB809FF5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B45-4CE4-4324-95C5-07A45FEB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9CB-1583-43FF-95E3-E4937B33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74C-05C0-4CBA-B41C-D154A99F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164DE5-A295-4346-A340-D87C8AE38BD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ертывание беспроводной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  <a:ea typeface="新細明體"/>
              </a:rPr>
              <a:t>IEEE 802.11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поддерживае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скорости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6, 9, 12, 18, 24, 36, 48, 54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Мбит/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(5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гц, запрещено в Р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  <a:ea typeface="新細明體"/>
              </a:rPr>
              <a:t>IEEE 802.11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поддерживае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скорости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2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5.5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11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Мбит/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25000"/>
              </a:lnSpc>
              <a:buClr>
                <a:srgbClr val="3333cc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  <a:ea typeface="新細明體"/>
              </a:rPr>
              <a:t>IEEE 802.11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поддерживае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скорости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1, 2, 5.5, 11, 22, 6, 9, 12, 18, 24, 36, 48, 54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Мбит/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IEEE 802.11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25000"/>
              </a:lnSpc>
              <a:tabLst>
                <a:tab algn="l" pos="0"/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 300 М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Более высокая скорость улучшает пропускную способ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Более низкая скорость увеличивает дистанцию и надеж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1370160"/>
                <a:tab algn="l" pos="2284560"/>
                <a:tab algn="l" pos="3198960"/>
                <a:tab algn="l" pos="4113360"/>
                <a:tab algn="l" pos="5027760"/>
                <a:tab algn="l" pos="5942160"/>
                <a:tab algn="l" pos="6856560"/>
                <a:tab algn="l" pos="7770960"/>
                <a:tab algn="l" pos="8685360"/>
                <a:tab algn="l" pos="9599760"/>
                <a:tab algn="l" pos="1051416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Автоматический или фиксированный выбор скор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8120" y="1001880"/>
            <a:ext cx="36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Скорость пере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6320" y="1600200"/>
          <a:ext cx="8915400" cy="4968720"/>
        </p:xfrm>
        <a:graphic>
          <a:graphicData uri="http://schemas.openxmlformats.org/drawingml/2006/table">
            <a:tbl>
              <a:tblPr/>
              <a:tblGrid>
                <a:gridCol w="4038480"/>
                <a:gridCol w="2514600"/>
                <a:gridCol w="2362320"/>
              </a:tblGrid>
              <a:tr h="39636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част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кан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12 - 2.472 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па (за исключением Франции и Испан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12 - 2.472 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и Исп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57 - 2.472 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 и 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12 - 2.462 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marL="8736120" indent="-8734680"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736120"/>
                          <a:tab algn="l" pos="9650520"/>
                          <a:tab algn="l" pos="10564920"/>
                          <a:tab algn="l" pos="11479320"/>
                          <a:tab algn="l" pos="12393720"/>
                          <a:tab algn="l" pos="13308120"/>
                          <a:tab algn="l" pos="14222520"/>
                          <a:tab algn="l" pos="15136920"/>
                          <a:tab algn="l" pos="16051320"/>
                          <a:tab algn="l" pos="16965720"/>
                          <a:tab algn="l" pos="17880120"/>
                          <a:tab algn="l" pos="1879452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12 - 2.484 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12 - 2.472 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12 - 2.472 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12 - 2.472 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ая 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12 - 2.472 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Восточная Азия (включая Сингапур, Малайзию, Таилан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12 - 2.472 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049400" y="905040"/>
            <a:ext cx="77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Количество каналов для различны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04920" y="1484280"/>
            <a:ext cx="3363840" cy="3500640"/>
            <a:chOff x="304920" y="1484280"/>
            <a:chExt cx="3363840" cy="3500640"/>
          </a:xfrm>
        </p:grpSpPr>
        <p:sp>
          <p:nvSpPr>
            <p:cNvPr id="63" name=""/>
            <p:cNvSpPr/>
            <p:nvPr/>
          </p:nvSpPr>
          <p:spPr>
            <a:xfrm>
              <a:off x="407880" y="1484280"/>
              <a:ext cx="1609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Ка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1484280"/>
              <a:ext cx="181584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5520" y="1484280"/>
              <a:ext cx="1339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Част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22560" y="1484280"/>
              <a:ext cx="154620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880" y="1735200"/>
              <a:ext cx="160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920" y="1735200"/>
              <a:ext cx="181584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25520" y="1735200"/>
              <a:ext cx="133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12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22560" y="1735200"/>
              <a:ext cx="154620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7880" y="1984320"/>
              <a:ext cx="1609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984320"/>
              <a:ext cx="181584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25520" y="1984320"/>
              <a:ext cx="1339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17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22560" y="1984320"/>
              <a:ext cx="154620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7880" y="2235240"/>
              <a:ext cx="160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920" y="2235240"/>
              <a:ext cx="181584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25520" y="2235240"/>
              <a:ext cx="133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22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22560" y="2235240"/>
              <a:ext cx="154620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880" y="2484360"/>
              <a:ext cx="16099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2484360"/>
              <a:ext cx="1815840" cy="24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25520" y="2484360"/>
              <a:ext cx="13399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27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22560" y="2484360"/>
              <a:ext cx="1546200" cy="24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7880" y="2735280"/>
              <a:ext cx="160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2735280"/>
              <a:ext cx="181584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25520" y="2735280"/>
              <a:ext cx="133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32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22560" y="2735280"/>
              <a:ext cx="154620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7880" y="2984400"/>
              <a:ext cx="16099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2984400"/>
              <a:ext cx="1815840" cy="24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25520" y="2984400"/>
              <a:ext cx="13399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37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2560" y="2984400"/>
              <a:ext cx="1546200" cy="24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880" y="3235320"/>
              <a:ext cx="1609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3235320"/>
              <a:ext cx="181584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25520" y="3235320"/>
              <a:ext cx="1339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42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22560" y="3235320"/>
              <a:ext cx="154620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7880" y="3486240"/>
              <a:ext cx="160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3486240"/>
              <a:ext cx="181584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25520" y="3486240"/>
              <a:ext cx="133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47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22560" y="3486240"/>
              <a:ext cx="154620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7880" y="3735360"/>
              <a:ext cx="1609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3735360"/>
              <a:ext cx="181584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25520" y="3735360"/>
              <a:ext cx="1339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52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3735360"/>
              <a:ext cx="154620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7880" y="3986280"/>
              <a:ext cx="160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3986280"/>
              <a:ext cx="181584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25520" y="3986280"/>
              <a:ext cx="133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57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22560" y="3986280"/>
              <a:ext cx="154620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880" y="4235400"/>
              <a:ext cx="1609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4235400"/>
              <a:ext cx="181584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25520" y="4235400"/>
              <a:ext cx="1339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62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22560" y="4235400"/>
              <a:ext cx="154620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7880" y="4486320"/>
              <a:ext cx="160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4486320"/>
              <a:ext cx="181584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25520" y="4486320"/>
              <a:ext cx="133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67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22560" y="4486320"/>
              <a:ext cx="1546200" cy="247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7880" y="4735440"/>
              <a:ext cx="16099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920" y="4735440"/>
              <a:ext cx="1815840" cy="24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25520" y="4735440"/>
              <a:ext cx="13399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72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ГГ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22560" y="4735440"/>
              <a:ext cx="1546200" cy="24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422880" y="641520"/>
            <a:ext cx="32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Частоты кан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781440" y="1789200"/>
            <a:ext cx="53625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540216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新細明體"/>
              </a:rPr>
              <a:t>Каждый канал занимает частотный диапазон в 22 МГц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新細明體"/>
              </a:rPr>
              <a:t>Например, канал 1 работает в диапазоне от 2,401ГГц до 2,423ГГц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新細明體"/>
              </a:rPr>
              <a:t>т.е 2,412ГГц ± 11МГ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1557360"/>
          <a:ext cx="8640720" cy="5062680"/>
        </p:xfrm>
        <a:graphic>
          <a:graphicData uri="http://schemas.openxmlformats.org/drawingml/2006/table">
            <a:tbl>
              <a:tblPr/>
              <a:tblGrid>
                <a:gridCol w="3097440"/>
                <a:gridCol w="1871640"/>
                <a:gridCol w="1944720"/>
                <a:gridCol w="1726920"/>
              </a:tblGrid>
              <a:tr h="209484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802.1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802.1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marL="23070960" indent="522360"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3070960"/>
                          <a:tab algn="l" pos="23985360"/>
                          <a:tab algn="l" pos="24899760"/>
                          <a:tab algn="l" pos="25814160"/>
                          <a:tab algn="l" pos="26728560"/>
                          <a:tab algn="l" pos="27642960"/>
                          <a:tab algn="l" pos="28557360"/>
                          <a:tab algn="l" pos="29471760"/>
                          <a:tab algn="l" pos="30386160"/>
                          <a:tab algn="l" pos="31300560"/>
                          <a:tab algn="l" pos="32214960"/>
                          <a:tab algn="l" pos="33129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802.11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т прин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. 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. 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ль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 пропуск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83.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83.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 часто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Г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.40 – 2.4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5.15 – 5.35, 5.725 – 5.8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.40 – 2.4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4520">
                <a:tc>
                  <a:txBody>
                    <a:bodyPr lIns="90000" rIns="90000" tIns="64440" bIns="46800" anchor="t">
                      <a:noAutofit/>
                    </a:bodyPr>
                    <a:p>
                      <a:pPr marL="21432960" indent="2160360"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1432960"/>
                          <a:tab algn="l" pos="22347360"/>
                          <a:tab algn="l" pos="23261760"/>
                          <a:tab algn="l" pos="24176160"/>
                          <a:tab algn="l" pos="25090560"/>
                          <a:tab algn="l" pos="26004960"/>
                          <a:tab algn="l" pos="26919360"/>
                          <a:tab algn="l" pos="27833760"/>
                          <a:tab algn="l" pos="28748160"/>
                          <a:tab algn="l" pos="29662560"/>
                          <a:tab algn="l" pos="30576960"/>
                          <a:tab algn="l" pos="31491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непересекающихся кан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88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передачи (Мбит/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 2, 5.5, 11,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6,9,12,18,24,36,48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, 2, 5.5, 11, 22, 6, 9, 12, 18, 24, 36, 48, 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модуля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S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D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SSS, OFD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836640" y="907920"/>
            <a:ext cx="80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Сравнение стандартов беспроводных с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0720" y="1676520"/>
            <a:ext cx="7086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Измеряется отношением Сигнал/Шу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(SN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Высокий уровень сигнала при малых шумах предоставляет наилучший канал связ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73760" y="907920"/>
            <a:ext cx="4234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Качество канала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1720" y="1762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495288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126828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В полосе пропускания систем, соответствующ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802.11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802.11g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доступ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толь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ка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920" y="2421000"/>
            <a:ext cx="9107640" cy="3522600"/>
            <a:chOff x="34920" y="2421000"/>
            <a:chExt cx="9107640" cy="35226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4920" y="2421000"/>
              <a:ext cx="9107640" cy="35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84360" y="2709720"/>
              <a:ext cx="532584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1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ая достижимая скорость обмена данными до 300 М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ен только один частотный ка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2524320" cy="1942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971800" y="3581280"/>
            <a:ext cx="256212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280" y="2038320"/>
            <a:ext cx="3606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399840" indent="11193480"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12399840"/>
                <a:tab algn="l" pos="13314240"/>
                <a:tab algn="l" pos="14228640"/>
                <a:tab algn="l" pos="15143040"/>
                <a:tab algn="l" pos="16057440"/>
                <a:tab algn="l" pos="16971840"/>
                <a:tab algn="l" pos="17886240"/>
                <a:tab algn="l" pos="18800640"/>
                <a:tab algn="l" pos="19715040"/>
                <a:tab algn="l" pos="20629440"/>
                <a:tab algn="l" pos="21543840"/>
                <a:tab algn="l" pos="2245824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Беспроводные сетевые адапте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399840" indent="111934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12399840"/>
                <a:tab algn="l" pos="13314240"/>
                <a:tab algn="l" pos="14228640"/>
                <a:tab algn="l" pos="15143040"/>
                <a:tab algn="l" pos="16057440"/>
                <a:tab algn="l" pos="16971840"/>
                <a:tab algn="l" pos="17886240"/>
                <a:tab algn="l" pos="18800640"/>
                <a:tab algn="l" pos="19715040"/>
                <a:tab algn="l" pos="20629440"/>
                <a:tab algn="l" pos="21543840"/>
                <a:tab algn="l" pos="22458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399840" indent="111934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2399840"/>
                <a:tab algn="l" pos="13314240"/>
                <a:tab algn="l" pos="14228640"/>
                <a:tab algn="l" pos="15143040"/>
                <a:tab algn="l" pos="16057440"/>
                <a:tab algn="l" pos="16971840"/>
                <a:tab algn="l" pos="17886240"/>
                <a:tab algn="l" pos="18800640"/>
                <a:tab algn="l" pos="19715040"/>
                <a:tab algn="l" pos="20629440"/>
                <a:tab algn="l" pos="21543840"/>
                <a:tab algn="l" pos="2245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Ad H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399840" indent="111934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2399840"/>
                <a:tab algn="l" pos="13314240"/>
                <a:tab algn="l" pos="14228640"/>
                <a:tab algn="l" pos="15143040"/>
                <a:tab algn="l" pos="16057440"/>
                <a:tab algn="l" pos="16971840"/>
                <a:tab algn="l" pos="17886240"/>
                <a:tab algn="l" pos="18800640"/>
                <a:tab algn="l" pos="19715040"/>
                <a:tab algn="l" pos="20629440"/>
                <a:tab algn="l" pos="21543840"/>
                <a:tab algn="l" pos="22458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802.11 Ad H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399840" indent="111934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2399840"/>
                <a:tab algn="l" pos="13314240"/>
                <a:tab algn="l" pos="14228640"/>
                <a:tab algn="l" pos="15143040"/>
                <a:tab algn="l" pos="16057440"/>
                <a:tab algn="l" pos="16971840"/>
                <a:tab algn="l" pos="17886240"/>
                <a:tab algn="l" pos="18800640"/>
                <a:tab algn="l" pos="19715040"/>
                <a:tab algn="l" pos="20629440"/>
                <a:tab algn="l" pos="21543840"/>
                <a:tab algn="l" pos="22458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Инфраструктур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10200" y="1195560"/>
            <a:ext cx="69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Режимы работы беспроводных с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038320"/>
            <a:ext cx="4464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Точки доступ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Точка доступ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Беспроводный м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«точка-точк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Беспроводный м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«точка-многоточк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Беспроводный клие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Повтор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25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320" y="2622600"/>
            <a:ext cx="4279680" cy="3854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547640" y="1143000"/>
            <a:ext cx="2819520" cy="838080"/>
          </a:xfrm>
          <a:prstGeom prst="wedgeEllipseCallout">
            <a:avLst>
              <a:gd name="adj1" fmla="val -2365"/>
              <a:gd name="adj2" fmla="val 222726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DWA 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18352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 Hoc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реж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одноранговое взаимодействие по типу «точка-точка», компьютеры взаимодействуют напрямую без применения точек доступ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320" y="2543040"/>
            <a:ext cx="4927320" cy="4270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04800" y="1779480"/>
            <a:ext cx="2076480" cy="685800"/>
          </a:xfrm>
          <a:prstGeom prst="wedgeRoundRectCallout">
            <a:avLst>
              <a:gd name="adj1" fmla="val 2675"/>
              <a:gd name="adj2" fmla="val 239120"/>
              <a:gd name="adj3" fmla="val 1666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DWL-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308400"/>
            <a:ext cx="1354320" cy="842760"/>
          </a:xfrm>
          <a:prstGeom prst="wedgeEllipseCallout">
            <a:avLst>
              <a:gd name="adj1" fmla="val 28078"/>
              <a:gd name="adj2" fmla="val 118550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D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6560" y="162864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Инфраструктурный режим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точки доступа обеспечивают связь клиентских компьютеров. Точку доступа можно рассматривать как беспроводной концентра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044800"/>
            <a:ext cx="8610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8240" indent="-3794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768240"/>
                <a:tab algn="l" pos="1682640"/>
                <a:tab algn="l" pos="2597040"/>
                <a:tab algn="l" pos="3511440"/>
                <a:tab algn="l" pos="4425840"/>
                <a:tab algn="l" pos="5340240"/>
                <a:tab algn="l" pos="6254640"/>
                <a:tab algn="l" pos="7169040"/>
                <a:tab algn="l" pos="8083440"/>
                <a:tab algn="l" pos="8997840"/>
                <a:tab algn="l" pos="9912240"/>
                <a:tab algn="l" pos="10826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Традиционные проводные сети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Данные передаются по витой паре, коаксиальному кабелю, оптоволокну и пр. Требуют затрат на прокладку каб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8240" indent="-379440">
              <a:lnSpc>
                <a:spcPct val="100000"/>
              </a:lnSpc>
              <a:spcBef>
                <a:spcPts val="3600"/>
              </a:spcBef>
              <a:buClr>
                <a:srgbClr val="000000"/>
              </a:buClr>
              <a:buFont typeface="Arial Unicode MS"/>
              <a:buChar char="•"/>
              <a:tabLst>
                <a:tab algn="l" pos="768240"/>
                <a:tab algn="l" pos="1682640"/>
                <a:tab algn="l" pos="2597040"/>
                <a:tab algn="l" pos="3511440"/>
                <a:tab algn="l" pos="4425840"/>
                <a:tab algn="l" pos="5340240"/>
                <a:tab algn="l" pos="6254640"/>
                <a:tab algn="l" pos="7169040"/>
                <a:tab algn="l" pos="8083440"/>
                <a:tab algn="l" pos="8997840"/>
                <a:tab algn="l" pos="9912240"/>
                <a:tab algn="l" pos="10826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Беспроводные сети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Данные передаются по воздуху, и сигнал для приема доступен для мобильных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25400" y="1246320"/>
            <a:ext cx="57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Что такое беспроводные сети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025640"/>
            <a:ext cx="8686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Arial"/>
                <a:ea typeface="新細明體"/>
              </a:rPr>
              <a:t>Беспроводный мост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используется для объединения двух или более провод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L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находящихся на расстоянии до нескольких к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8240" y="3276720"/>
            <a:ext cx="4203720" cy="3808440"/>
            <a:chOff x="138240" y="3276720"/>
            <a:chExt cx="4203720" cy="38084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290520" y="3276720"/>
              <a:ext cx="3960720" cy="38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38240" y="3733920"/>
              <a:ext cx="1293840" cy="303120"/>
            </a:xfrm>
            <a:prstGeom prst="wedgeRoundRectCallout">
              <a:avLst>
                <a:gd name="adj1" fmla="val 50611"/>
                <a:gd name="adj2" fmla="val 161458"/>
                <a:gd name="adj3" fmla="val 16667"/>
              </a:avLst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WL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040" y="3657600"/>
              <a:ext cx="1231920" cy="303120"/>
            </a:xfrm>
            <a:prstGeom prst="wedgeRoundRectCallout">
              <a:avLst>
                <a:gd name="adj1" fmla="val -57078"/>
                <a:gd name="adj2" fmla="val 153125"/>
                <a:gd name="adj3" fmla="val 16667"/>
              </a:avLst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WL-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257800" y="3733920"/>
            <a:ext cx="2911320" cy="3046320"/>
            <a:chOff x="5257800" y="3733920"/>
            <a:chExt cx="2911320" cy="3046320"/>
          </a:xfrm>
        </p:grpSpPr>
        <p:graphicFrame>
          <p:nvGraphicFramePr>
            <p:cNvPr id="152" name=""/>
            <p:cNvGraphicFramePr/>
            <p:nvPr/>
          </p:nvGraphicFramePr>
          <p:xfrm>
            <a:off x="7253280" y="5330880"/>
            <a:ext cx="915840" cy="137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53280" y="5330880"/>
                      <a:ext cx="915840" cy="13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5257800" y="5330880"/>
            <a:ext cx="963720" cy="1449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5330880"/>
                      <a:ext cx="963720" cy="14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6396120" y="3733920"/>
            <a:ext cx="958680" cy="1439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96120" y="3733920"/>
                      <a:ext cx="958680" cy="14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5408640" y="4168800"/>
              <a:ext cx="2633760" cy="224784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 rot="7920000">
            <a:off x="5790600" y="4875120"/>
            <a:ext cx="762120" cy="304560"/>
          </a:xfrm>
          <a:custGeom>
            <a:avLst/>
            <a:gdLst>
              <a:gd name="textAreaLeft" fmla="*/ 118800 w 762120"/>
              <a:gd name="textAreaRight" fmla="*/ 634680 w 762120"/>
              <a:gd name="textAreaTop" fmla="*/ 90720 h 304560"/>
              <a:gd name="textAreaBottom" fmla="*/ 21384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6450"/>
                </a:moveTo>
                <a:lnTo>
                  <a:pt x="12628" y="6450"/>
                </a:lnTo>
                <a:lnTo>
                  <a:pt x="12628" y="0"/>
                </a:lnTo>
                <a:lnTo>
                  <a:pt x="21600" y="10800"/>
                </a:lnTo>
                <a:lnTo>
                  <a:pt x="12628" y="21600"/>
                </a:lnTo>
                <a:lnTo>
                  <a:pt x="12628" y="15150"/>
                </a:lnTo>
                <a:lnTo>
                  <a:pt x="3375" y="15150"/>
                </a:lnTo>
                <a:close/>
              </a:path>
              <a:path w="21600" h="21600">
                <a:moveTo>
                  <a:pt x="0" y="6450"/>
                </a:moveTo>
                <a:lnTo>
                  <a:pt x="675" y="6450"/>
                </a:lnTo>
                <a:lnTo>
                  <a:pt x="675" y="15150"/>
                </a:lnTo>
                <a:lnTo>
                  <a:pt x="0" y="15150"/>
                </a:lnTo>
                <a:close/>
              </a:path>
              <a:path w="21600" h="21600">
                <a:moveTo>
                  <a:pt x="1350" y="6450"/>
                </a:moveTo>
                <a:lnTo>
                  <a:pt x="2700" y="6450"/>
                </a:lnTo>
                <a:lnTo>
                  <a:pt x="2700" y="15150"/>
                </a:lnTo>
                <a:lnTo>
                  <a:pt x="1350" y="1515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3240000">
            <a:off x="6859080" y="4876560"/>
            <a:ext cx="761760" cy="304920"/>
          </a:xfrm>
          <a:custGeom>
            <a:avLst/>
            <a:gdLst>
              <a:gd name="textAreaLeft" fmla="*/ 118800 w 761760"/>
              <a:gd name="textAreaRight" fmla="*/ 634320 w 761760"/>
              <a:gd name="textAreaTop" fmla="*/ 91080 h 304920"/>
              <a:gd name="textAreaBottom" fmla="*/ 21384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6450"/>
                </a:moveTo>
                <a:lnTo>
                  <a:pt x="12628" y="6450"/>
                </a:lnTo>
                <a:lnTo>
                  <a:pt x="12628" y="0"/>
                </a:lnTo>
                <a:lnTo>
                  <a:pt x="21600" y="10800"/>
                </a:lnTo>
                <a:lnTo>
                  <a:pt x="12628" y="21600"/>
                </a:lnTo>
                <a:lnTo>
                  <a:pt x="12628" y="15150"/>
                </a:lnTo>
                <a:lnTo>
                  <a:pt x="3375" y="15150"/>
                </a:lnTo>
                <a:close/>
              </a:path>
              <a:path w="21600" h="21600">
                <a:moveTo>
                  <a:pt x="0" y="6450"/>
                </a:moveTo>
                <a:lnTo>
                  <a:pt x="675" y="6450"/>
                </a:lnTo>
                <a:lnTo>
                  <a:pt x="675" y="15150"/>
                </a:lnTo>
                <a:lnTo>
                  <a:pt x="0" y="15150"/>
                </a:lnTo>
                <a:close/>
              </a:path>
              <a:path w="21600" h="21600">
                <a:moveTo>
                  <a:pt x="1350" y="6450"/>
                </a:moveTo>
                <a:lnTo>
                  <a:pt x="2700" y="6450"/>
                </a:lnTo>
                <a:lnTo>
                  <a:pt x="2700" y="15150"/>
                </a:lnTo>
                <a:lnTo>
                  <a:pt x="1350" y="1515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952880" y="2971800"/>
            <a:ext cx="1447920" cy="457200"/>
          </a:xfrm>
          <a:prstGeom prst="wedgeRoundRectCallout">
            <a:avLst>
              <a:gd name="adj1" fmla="val -74342"/>
              <a:gd name="adj2" fmla="val 118750"/>
              <a:gd name="adj3" fmla="val 1666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DWL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4572000"/>
            <a:ext cx="1447920" cy="380880"/>
          </a:xfrm>
          <a:prstGeom prst="wedgeRoundRectCallout">
            <a:avLst>
              <a:gd name="adj1" fmla="val -45504"/>
              <a:gd name="adj2" fmla="val 172500"/>
              <a:gd name="adj3" fmla="val 1666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DWL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267080" y="4572000"/>
            <a:ext cx="1371600" cy="380880"/>
          </a:xfrm>
          <a:prstGeom prst="wedgeRoundRectCallout">
            <a:avLst>
              <a:gd name="adj1" fmla="val -45254"/>
              <a:gd name="adj2" fmla="val 172078"/>
              <a:gd name="adj3" fmla="val 1666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DWL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249228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新細明體"/>
              </a:rPr>
              <a:t>Беспровод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新細明體"/>
              </a:rPr>
              <a:t>«точка-точ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27640" y="234936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新細明體"/>
              </a:rPr>
              <a:t>Беспровод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新細明體"/>
              </a:rPr>
              <a:t>«точка-много точ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16000" y="112536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Беспроводный мост между двумя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905120"/>
            <a:ext cx="838224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С помощью беспроводных мостов можно объединять две и более проводны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LA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, находящихся как на небольшом расстоянии в соседних зданиях, так и на расстояниях до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нескольких км., что позволяет объединить в сеть филиалы и центральный оф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Данное решение позволяет достичь значительной экономии средств и обеспечивает простоту настройки и гибкость конфигурации при перемещении филиа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11430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Arial"/>
                <a:ea typeface="新細明體"/>
              </a:rPr>
              <a:t>Дополнительные режимы точек доступа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как правило фирменные, т.е. поддерживаются не всеми поставщик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2388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90560" y="1106640"/>
            <a:ext cx="798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Обработка коллизий в беспроводных се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6360" y="1716120"/>
            <a:ext cx="8839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Беспроводной адаптер не может обнаружить коллизию в ходе передачи пакета, т.к. метод обнаружения коллиз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SMA/C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не может работать в беспроводной с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Поэтому для обнаружения коллизий и потери пакета использует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мет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SMA/C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квитированием – на каждый пакет ожидается подтверждение доставки, если такой пакет не пришел – значит произошла коллизия и пакет передается повто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27360" y="112536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Параметры настройки беспроводных с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916280"/>
            <a:ext cx="8713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Имя се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– ESSI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ended Service Set I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Каждая Точка Доступа должна быть сконфигурирована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уникальны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Защищенный доступ позво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доступ к се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только клиентам с правильны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Если к одной подсети подключены несколько точек доступа – им нужно присвоить один и тот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S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1916280"/>
            <a:ext cx="83534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Канал работы беспроводного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При настройке точки доступа необходимо указать канал для работы беспроводного со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На клиентских устройствах настройку производить не нужно, т.к. адаптер подключается к точке доступа на том канале, который настроен для е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Для увеличения пропускной способности, каналы не должны перекры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27360" y="1125360"/>
            <a:ext cx="79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Параметры настройки беспроводных с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705040" y="98100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Управление пит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Поскольку большинство беспроводных устройств работают на батарея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некоторое управление питанием необход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802.1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устройства имеют 2 режим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Нормальный и Сохранения энергии с пробужде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A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устройства всегда готовы к работе и принимают пак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PS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устройства оповещают Точку Доступа, перед тем, как «заснуть», и затем периодически «просыпаются» для проверки сигнала-маяка, что для них есть пак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21337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 </a:t>
            </a:r>
            <a:r>
              <a:rPr b="1" lang="ru-RU" sz="24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По имени сети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можно использовать уникаль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ESSI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во избежание несанкционированного доступа в Вашу беспроводную с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ru-RU" sz="24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По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 MAC</a:t>
            </a:r>
            <a:r>
              <a:rPr b="1" lang="ru-RU" sz="24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-адресу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Вы можете задать на точке доступа спис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–адресов, котором Вы хотите разрешить авторизацию в Вашей группе в сети на Вашей точке доступ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С</a:t>
            </a:r>
            <a:r>
              <a:rPr b="1" lang="ru-RU" sz="24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 </a:t>
            </a:r>
            <a:r>
              <a:rPr b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использованием</a:t>
            </a:r>
            <a:r>
              <a:rPr b="1" lang="ru-RU" sz="2400" spc="-1" strike="noStrike" u="sng">
                <a:solidFill>
                  <a:srgbClr val="3333cc"/>
                </a:solidFill>
                <a:uFillTx/>
                <a:latin typeface="Arial"/>
                <a:ea typeface="新細明體"/>
              </a:rPr>
              <a:t> </a:t>
            </a:r>
            <a:r>
              <a:rPr b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шиф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7000" y="1143000"/>
            <a:ext cx="34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Контроль дост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9907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Планирование и развертывание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беспроводной сети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13372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При развертывании беспроводной сети нужно определить плотность размещения точек доступа для обеспечения роуминга и беспрерывной связи при перемещении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Необходимо разместить точки доступа так, чтоб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Увеличить зону по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Обеспечить качество связи и необходиму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пропускную 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Не допустить пересечения каналов точ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дост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9280" y="1125360"/>
            <a:ext cx="883944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05960" indent="128736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2305960"/>
                <a:tab algn="l" pos="23220360"/>
                <a:tab algn="l" pos="24134760"/>
                <a:tab algn="l" pos="25049160"/>
                <a:tab algn="l" pos="25963560"/>
                <a:tab algn="l" pos="26877960"/>
                <a:tab algn="l" pos="27792360"/>
                <a:tab algn="l" pos="28706760"/>
                <a:tab algn="l" pos="29621160"/>
                <a:tab algn="l" pos="30535560"/>
                <a:tab algn="l" pos="31449960"/>
                <a:tab algn="l" pos="32364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Пример расположения точек доступа и настройки каналов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 802.11a,b,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790960" cy="4319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2362320"/>
            <a:ext cx="213372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2819520"/>
            <a:ext cx="213336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4200" y="2403360"/>
            <a:ext cx="213372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46160" y="3846600"/>
            <a:ext cx="213372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4267080"/>
            <a:ext cx="213336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91040" y="3809880"/>
            <a:ext cx="2133720" cy="2057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получили распространение три семейства стандартов для построения беспроводных вычислительных с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EEE 802.11 – Wireless Local Area Network (WLAN — беспроводные локальные вычислительные се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EEE 802.15 – Wireless Personal Area Network (WPAN — беспроводные персональные вычислительные се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EEE 802.16 – Broadband Wireless Access (BWA — беспроводной широкополосный доступ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нном курсе основное внимание будет уделено сетям на основе стандарта IEEE 802.11. Такие сети достаточно часто называют Wi-Fi-сетям (от Wireless Fidelity - высокая точность воспроизведения с использованием беспроводной технолог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920" y="1249200"/>
            <a:ext cx="861048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При планировании беспроводной сети необходимо учитывать следующие мо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Расположение Точек Доступа зависит от необходимой площади охвата и конструкции зд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Толстые стены, или стены с металлоконструкциями, будут блокировать сигнал сильнее, чем светопропускающие констру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Количество стен и перегородок желательно свести к минимуму – каждая стена может сокращать максимальную дистанцию для передачи данны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на 1 - 30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320" y="3200400"/>
            <a:ext cx="8991360" cy="3316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280" y="1143000"/>
            <a:ext cx="8686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Располагайте беспроводные устройства по прямой линии: стена толщиной в 0,5 м. При расположении устройств под углом в 45 градусов становится толщиной почти 1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607680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新細明體"/>
              </a:rPr>
              <a:t>с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607680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新細明體"/>
              </a:rPr>
              <a:t>с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327672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新細明體"/>
              </a:rPr>
              <a:t>Прям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329580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新細明體"/>
              </a:rPr>
              <a:t>Угол в 45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4648320"/>
            <a:ext cx="762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新細明體"/>
              </a:rPr>
              <a:t>0,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504360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新細明體"/>
              </a:rPr>
              <a:t>Около 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5729400"/>
            <a:ext cx="60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新細明體"/>
              </a:rPr>
              <a:t>45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467480" y="3581280"/>
            <a:ext cx="1143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1924200"/>
            <a:ext cx="861048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Офисная меб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кабине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могут образовы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т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”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в зоне охв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Для получения широкой зоны охвата необходима прямая видимость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Удостоверьтесь, что антенна настроена для лучшего при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828800" y="3556080"/>
            <a:ext cx="4952880" cy="3257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79280" y="1052640"/>
            <a:ext cx="871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Используя поставляемые с устройствами утилиты для оценки качества связи, необходимо построить карту зоны охвата в заданном помеще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Например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Утилита к Беспроводному адаптеру имеет функцию диагностики, позволяет определить уровень сигнала по каждому каналу. Также можно проверить качество связи между клиентом и точкой доступа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одсчета дальности беспроводного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40012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щность передатч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усиления передающей антен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усиления приемной антен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ая чувствительность приемн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ери сигнала в коаксиальном кабеле и разъемах передающего тра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ери сигнала в коаксиальном кабеле и разъемах приемного тра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44720" y="1898640"/>
            <a:ext cx="7126200" cy="458640"/>
            <a:chOff x="1044720" y="1898640"/>
            <a:chExt cx="7126200" cy="45864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1044720" y="1898640"/>
              <a:ext cx="712620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044720" y="1898640"/>
              <a:ext cx="71262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одсчета дальности беспроводного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2161800"/>
            <a:ext cx="40338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офисные устр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2640" y="2161800"/>
            <a:ext cx="40338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Внешние устр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547640" y="1628640"/>
            <a:ext cx="6767640" cy="459000"/>
            <a:chOff x="1547640" y="1628640"/>
            <a:chExt cx="6767640" cy="4590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547640" y="1628640"/>
              <a:ext cx="676764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547640" y="1628640"/>
              <a:ext cx="676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547640" y="4437000"/>
            <a:ext cx="1873440" cy="1513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35640" y="3933720"/>
            <a:ext cx="1681200" cy="2664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66920" y="1484280"/>
            <a:ext cx="79236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одсчета дальности беспроводного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73240" y="2492280"/>
            <a:ext cx="380988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направленные антен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-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35400" y="2492280"/>
            <a:ext cx="381024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ные антен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2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769440" cy="428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03640" y="1484280"/>
            <a:ext cx="194472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788000" y="3860640"/>
          <a:ext cx="3174840" cy="27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3860640"/>
                    <a:ext cx="317484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332000" y="400068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одсчета дальности беспроводного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769440" cy="428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413320" y="1424160"/>
            <a:ext cx="936720" cy="871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2852640"/>
            <a:ext cx="380988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4 Мбит/с: -66 dB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8 Мбит/с: -71 dB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 Мбит/с: -76 dB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 Мбит/с: -80 dB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Мбит/с: -83 dB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Мбит/с: -85 dB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Мбит/с: -86 dB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Мбит/с: -87 dB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35400" y="2778120"/>
            <a:ext cx="381024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4Mбит/с: -66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Mбит/с: -71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Mбит/с: -76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Mбит/с: -80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Mбит/с: -83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Mбит/с: -88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Mбит/с: -85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Mбит/с: -86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Mбит/с: -87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5Мбит/с: -88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Mбит/с: -89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Mбит/с: -92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одсчета дальности беспроводного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73240" y="2492280"/>
            <a:ext cx="3809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35400" y="2492280"/>
            <a:ext cx="253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ем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769440" cy="428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443640" y="1484280"/>
            <a:ext cx="194472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5516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е потери в кабеле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х затухание в 1 м + потери в разъе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476360" y="3284640"/>
            <a:ext cx="223200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5292720" y="3141720"/>
          <a:ext cx="2592360" cy="18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3141720"/>
                    <a:ext cx="259236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тухание в атмосфе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0 = -20 log (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(4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длина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сстояние между антен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 / f       c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 све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295280"/>
            <a:ext cx="8610480" cy="46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2680" indent="-3826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Беспроводные сети, обладающие гибкостью при конфигурации и расширении, могут служить как добавлением, так и заменой проводных сетей при построении сетевой инфра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Пользователи могут свободно перемещаться, т.к. беспроводные сети обеспечивают доступ к сетевым ресурсам компании из любого ме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Беспроводные сети не только обеспечивают мобильный доступ, но и сами мобильны, т.к. можно легко переместить сеть в другое место. Быстрая и лёгкая инсталля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арное усиление радиоканала должно быть больше затухания  в атмосфере на величину 10-30 дб (энергетический запа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ммарное уси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20720" y="2349360"/>
            <a:ext cx="5688000" cy="4199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одсчета дальности беспроводного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044720" y="1609560"/>
            <a:ext cx="7127640" cy="4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" y="2057400"/>
            <a:ext cx="86868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新細明體"/>
              </a:rPr>
              <a:t>Отношение сигнал - шум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N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 хорошее, но производительность данных - относительно низк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Перегруженная сеть – слишком много клиентов пытаются получить доступ к среде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Электрическое устройство, генерирующее радиосигнал,  расположено рядом с беспроводным кли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Качество связи другого клиента недостаточно хорошее и поэтому он возникает много повторной передачи пак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Коллизии, возникающие из-за проблемы «скрытый уз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58920" y="1052640"/>
            <a:ext cx="67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Некоторые типичные проблемы при проектировании беспроводной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1512720"/>
            <a:ext cx="868680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新細明體"/>
              </a:rPr>
              <a:t>Концентрация пользователей на точку доступа слишком высок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Разместите ближе точки доступа, чтобы распределить нагруз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Добавьте дополнительные точки доступа к беспровод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新細明體"/>
              </a:rPr>
              <a:t>Уровень сигнала низк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Устройства могут быть слишком далеко друг от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Имеется преграда между устр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ОЛНИТЕЛЬНЫЕ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енны беспроводных устр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ройства подачи напряжения по питающему каб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2560" y="907920"/>
            <a:ext cx="835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Антенны для беспроводных устр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2920" y="3222720"/>
            <a:ext cx="58896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굴림"/>
              </a:rPr>
              <a:t>Антен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ANT24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굴림"/>
              </a:rPr>
              <a:t>4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Коэффициент усиления: 4 dBi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Рабочий диапазон частот: 2.4-2.5 ГГц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Ширина ДН (вертик./горизонт.) 63°/3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74680" y="3294000"/>
            <a:ext cx="2039760" cy="1657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9280" y="1557360"/>
            <a:ext cx="849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굴림"/>
              </a:rPr>
              <a:t>Антенны используются для усиления сигнала и могут использоваться в зависимости от модели внутри или снаружи помещ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71520" y="5327640"/>
            <a:ext cx="1828800" cy="1486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411280" y="5094360"/>
            <a:ext cx="62629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굴림"/>
              </a:rPr>
              <a:t>Внутренняя антен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ANT24-0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Коэффициент усиления: 5 dBi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Рабочий диапазон частот: 2.4-2.5 ГГц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Ширина ДН (вертик./горизонт.) 32°/3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6920" y="2646360"/>
            <a:ext cx="712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굴림"/>
              </a:rPr>
              <a:t>Антенны для внутриофисного использ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1200" y="1682640"/>
            <a:ext cx="1828800" cy="1486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556000" y="1714680"/>
            <a:ext cx="621504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굴림"/>
              </a:rPr>
              <a:t>Антен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ANT24-08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Коэффициент усиления: 8 dBi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Рабочий диапазон частот: 2.4-2.5 ГГц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Ширина ДН (вертик./горизонт.) 65°/70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33240" y="4989600"/>
            <a:ext cx="1828800" cy="1485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556000" y="5024520"/>
            <a:ext cx="638784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ANT24-1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Коэффициент усиления: 18 dBi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Рабочий диапазон частот: 2.4-2.5 ГГц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Ширина ДН (вертик./горизонт.) 15°/15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56000" y="3384720"/>
            <a:ext cx="58896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굴림"/>
              </a:rPr>
              <a:t>Антен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ANT24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굴림"/>
              </a:rPr>
              <a:t>-1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굴림"/>
              </a:rPr>
              <a:t>Коэффициент усиления: 14 dBi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굴림"/>
              </a:rPr>
              <a:t>Рабочий диапазон частот: 2.4-2.5 ГГц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굴림"/>
              </a:rPr>
              <a:t>Ширина ДН (вертик./горизонт.) 30°/ </a:t>
            </a: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굴림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95280" y="3311640"/>
            <a:ext cx="2040120" cy="16570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944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굴림"/>
              </a:rPr>
              <a:t>Антенны для внешнего использования, защищенные от погодных усло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508720" y="679320"/>
            <a:ext cx="3097080" cy="1803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868480" y="1311120"/>
            <a:ext cx="86868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193840"/>
            <a:ext cx="825984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люсы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ет питание чер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ыч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therne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бель 5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ит 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Base Uni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ermina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установить устройство где угодно, не зависимо от наличия поблизости розетки электро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стоимость и добавляет гибкость разверт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разует входящ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нное напря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изковольтное постоя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щает Точку Доступа от возможных повреждений при скачках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ая потребляемая мощ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0717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Arial"/>
                <a:ea typeface="굴림"/>
              </a:rPr>
              <a:t>Устройства подачи питания по </a:t>
            </a:r>
            <a:br>
              <a:rPr sz="2600"/>
            </a:br>
            <a:r>
              <a:rPr b="1" lang="ru-RU" sz="2600" spc="-1" strike="noStrike">
                <a:solidFill>
                  <a:srgbClr val="3333cc"/>
                </a:solidFill>
                <a:latin typeface="Arial"/>
                <a:ea typeface="굴림"/>
              </a:rPr>
              <a:t>кабелю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굴림"/>
              </a:rPr>
              <a:t>Ethernet</a:t>
            </a:r>
            <a:r>
              <a:rPr b="1" lang="ru-RU" sz="2600" spc="-1" strike="noStrike">
                <a:solidFill>
                  <a:srgbClr val="3333cc"/>
                </a:solidFill>
                <a:latin typeface="Arial"/>
                <a:ea typeface="굴림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굴림"/>
              </a:rPr>
              <a:t>DWL-P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крипт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ение защищенной беспроводной с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P-WPA-WP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авильная настройка беспроводных соединений– серьезная опасность для ЛВ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ткрытость» дает возможность для хакерства и перехвата «проезд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50840" y="1125360"/>
            <a:ext cx="75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Сферы применения беспроводных с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706400"/>
            <a:ext cx="82803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Внутриофисные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Домашние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Выставочные комплексы и конференц-з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Доступ к Интернет в гостиницах, кафе, библиотеках, студенческих городках и т.д. –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hot spo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新細明體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Сети провайдеров Интернет: подключение клиентов там, где нет возможности протянуть ка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新細明體"/>
              </a:rPr>
              <a:t>«Гостевой» доступ к корпоративной сети для клиентов и парт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идеология построения защит 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мость алгоритма защиты не должна превышать стоимость защищаем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, необходимое для вскрытия  ключа или пароля должно превышать период актуальности защищаем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жизни сеансового ключа не должно превышать время, необходимое для вскрытия клю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стандартов защиты беспроводных с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1997 – защита п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мя се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- IEEE 802.11 (W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- WEP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убликован алгоритм взл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2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.1X (dynamic W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- IEEE 802.1g (W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2004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EEE 802.1i (WPA2) (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начало сертификации,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широкое внедрение 2006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/2007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актуал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нв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ен на баз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ариа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один статический клю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 задается вручну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едусмотрена аутентификация пользователя или у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андарте предусмотрены ключи длиной 64,128,(256) б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юч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 б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itialization vector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 или 104 бит секретный клю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д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egrity che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числяет контрольную сум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яет последовательность ключей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ющая сторона шифрует данные и контр. сум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ется открытым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ная сторона дешифрирует данные на основе известног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олученног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язв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тоек к взлому «грубой сил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ляет 24 бит. До повто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ерехватить всего 24 ГБ пакетов (менее 1 часа на скор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ти имеется множество ПО для перехвата (Линук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юч статический- вычисление ключа: сеть взлом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6 бит шифрование не увеличивает длин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ледовательно не повышает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P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ревшее оборудование, поддерживающее 802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беспечивает другой защиты кром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P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ечается все реж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енный путь- организа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PN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ннелей. Недостаток- необходимо дополнительное 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02.1X + WEP (Dynamic WEP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AP (Extensible Authentication Protocol) – протокол расширенной аутентификации пользователей или удаленных устройст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ADIUS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в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LS (Transport Layer Security) – протокол защиты транспортного уровня, он обеспечивает целостность передачи данных между сервером и клиентом, а так же их взаимную аутентификац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ADIUS (Remote Authentication Dial-In User Server) – сервер аутентификации (проверки подлинности) удаленных клиентов. Он и обеспечивает аутентификацию пользова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окол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P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802.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ed acces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онсирован 31 октября  2002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окол действует в настоящее время и обязателен для всех сертифицируемых беспроводных устрой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429264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5445000"/>
            <a:ext cx="2303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PA+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5445000"/>
            <a:ext cx="1871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PA-P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841480" y="4869000"/>
            <a:ext cx="15163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56000" y="4869000"/>
            <a:ext cx="792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PA = 802.1X + EAP + TKIP + 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P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le Authentication Protocol (Rad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KI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TKIP (Temporal Key Integrity Protocol) – реализация динамических ключей шифрования, плюс к этому, каждое устройство в сети так же получает свой Master-ключ (который тоже время от времени меняется). Ключи шифрования имеют длину 128 бит и генерируются по сложному алгоритму, а общее кол-во возможных вариантов ключей достигает сотни миллиардов, а меняются они очень часто. Тем не менее, используемый алгоритм шифрования – по-прежнему RC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I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Message Integrity Check) – протокол проверки целостности пакетов. Протокол позволяет отбрасывать пакеты, которые были «вставлены» в канал третьим лицом, т.е. ушли не от валидного отправ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г 1. Клиент устанавливает физическое соединение с точкой доступа (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г 2. AP блокирует сетевые соединения до тех пор, пока клиент не пройдет аутентифик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г 3. Клиент посылает запрос к серверу аутент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утентификация не осуществлена - клиент остается «блокирован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утентификация пройдена – процесс продолж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г 4. Сервер аутентификации автоматически рассылает ключи шифрования точке доступа и клиен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г 5. Доступ к сети разрешен, начинается обмен д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6560" y="1001880"/>
            <a:ext cx="81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Семейство стандартов беспроводных с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2276640"/>
            <a:ext cx="878544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2680">
              <a:lnSpc>
                <a:spcPct val="115000"/>
              </a:lnSpc>
              <a:spcBef>
                <a:spcPts val="1925"/>
              </a:spcBef>
              <a:tabLst>
                <a:tab algn="l" pos="0"/>
                <a:tab algn="l" pos="3841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Стандар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IEE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802.11 входит в серию стандартов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IEE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80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, относящихся к сетям и коммуникациям, сюда также входят такие стандарты, как 802.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Etherne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, 802.5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Token Ring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и т.д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Т.о., стандар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IEE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802.11 определяет компоненты и характеристики сети на физическом уровне передачи данных и на уровне доступа к середе с учетом беспроводного способа передачи данных и возможности взаимодействия с существующими сет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192720" cy="4626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68360" y="587700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люстрация Networld + Intero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pril 29, 200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David Coh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hair, Security Committee Wi-Fi Al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A-P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имеет упрощённый режим, который не требует использования сложных механизмов. Этот режим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Pre-Shared Ke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WPA-PSK) - при его использовании необходимо ввес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па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каждый узел беспроводной сети (точки доступа, беспроводные маршрутизаторы, клиентские адаптеры, мосты). До тех пор, пока пароли совпадают, клиенту будет разрешён доступ в с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A-PSK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личие о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а аутентифик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«проверяющего» берет на себя точка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именяется механизм «нестойкого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птование идентично полной вер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98508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A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иен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 роли клиента выступает Supplicant - программа на клиентском компьютере управляющая процессом аутентифик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утентификато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 Это точка доступа, которая выполняет функции посредника между клиентом и сервером аутентификации (аутентификатором может быть и проводной коммутатор, т.к. 802.11 используется и в проводных сет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рве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утентификаци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 роли сервера аутентификации выступает RADIUS-серве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и аутентификации возлагаются на протокол EAP, который сам по себе является лишь каркасом для методов аутентификации. Преимущества протокола в том, что его очень просто реализовать на аутентификаторе, так как ему не требуется знать никаких специфичных особенностей различных методов аутентификации. Аутентификатор служит лишь передаточным звеном между клиентом и сервером аутентификации. Ниже перечислены наиболее распространённые методы аутентифика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EAP-SIM, EAP-AK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используются в сетях GSM мобильной свя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LEA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ропреоретарный метод разработанный компанией Cisco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EAP-MD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ростейший метод, аналогичный CHAP (не стойк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EAP-MSCHAP V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етод аутентификации на основе логина и пароля пользователя в MS-сет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EAP-TLS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- аутентификация на основе цифровых сертифик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EAP-SecureI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етод на основе однократных па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аутентиф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шения задачи аутентификации метод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отрим создание собственного сертификационного центра и выдачу сертификатов клиентам и серверам, а также настройку FreeRADIUS для работы с EAP-T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выдачи сертификатов носит название P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ublic Key Infrastructure (PKI) - инфраструктура открытых ключей. PKI обеспечивает создание цифровых сертификатов (по заранее заданным политикам), управление ими, хранение, выдача их субъектам и отзыв (аннулирова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субъект PKI (будь то обычный пользователь, веб-сервер, любой другой сервер или сетевое устройство) имеет личный сертификат (или несколько сертификатов) содержащий информацию, по которой его можно однозначно идентифицир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его  открытый клю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главе всей структуры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сертификационный центр, Certificate Authority (CA), который подписывает сертификаты субъектов, а также подтверждает валидность выданных сертификатов, то есть удостоверяет личности владе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A доверяют все субъекты PKI, поэтому корневой сертификат (т.е. сертификат CA) должен быть в списке доверия у всех субъектов P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ние сертифика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емые для аутентификации сертификаты создаются с помощью криптографического пакет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SS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центр сертификации С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 Authorit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— средство позволяющее выдавать сертификаты. Для этого необходимо сгенерировать клю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генерировать сертификат СА и подписать его ключом, созданным на предыдущем шаге. Таким образом создаётся самоподписанный сертифи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серверный сертификат. Этот сертификат будет установлен на серв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ть сертификаты клиентов. Эти сертификаты будут установлены на оборудование кл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и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RADIUS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ировать сертификат серв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ить аутентификатор (точку доступ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ить кли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7240" y="1001880"/>
            <a:ext cx="859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Стандарты  беспроводных сетей -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EEE 802.1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(устаревший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905120"/>
            <a:ext cx="878508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2680" indent="-3826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Текущий наиболее распространенный стандарт, совместим с предыдущим стандарто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IEEE 802.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Работает на частоте 2,4 ГГ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Используется метод прямой последовательности с разнесением сигнала по широкому диапазону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DSS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Поддерживае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скорость соедине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2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5.5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11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Мбит/с (реальная скорость передачи данных от 4 до 7 Мбит/с), автоматический или фиксированный выбор скор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Защита данных при помощи шифров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W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ем корневой сертифик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&gt;openssl genrsa -des3 -out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mp_org-ca.ke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20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RSA private key, 2048 bit long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................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.....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is 65537 (0x1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pass phrase for tmp_org.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- Enter pass phrase for tmp_org-ca.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требуется ввести па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имое ключа, если это необходимо, можно просмотреть следующей команд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nssl rsa -noout -text -in tmp_org-ca.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сгенерируем самоподписанный (то есть подписанный самим собой) сертификат C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penssl req -new -x509 -days 3650 -key tmp_org-ca.key -out tmp_org-ca.c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 pass phrase for tmp_org.ke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ou are about to be asked to enter information that will be incorpo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o your certificate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 you are about to enter is what is called a Distinguished Name or a D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re are quite a few fields but you can leave some bl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 some fields there will be a default valu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f you enter '.', the field will be left bla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untry Name (2 letter code) [RU]: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 or Province Name (full name) [Euro]: 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cality Name (eg, city) [Moscow]: N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rganization Name (eg, company) [company]:NS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rganizational Unit Name (eg, section) [network IT]: AV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mon Name (eg, YOUR name) []:pa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ail Address [admin@company.org]: admin@email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нерация сертифик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этапе генерации сертификата необходимо указать ключевую фразу, которой закрыт ключ CA, а после этого - заполнить необходимые поля (имя компании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географическое положение центра сертификации), самым важным из которых яв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ommon Nam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уникальное имя сертификационного цент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ние клиентских сертифик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альнейшего создания сертификатов будет использоваться скрип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ign_cert.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!/bin/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# sign_cert.sh - Create/Sign/Revoke a SSL cert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# by eigh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# /original idea from sign.sh script by Ralf S. Engelschal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озволяет создавать серверные/пользовательские сертификаты с экспортом их в формат PKCS#12 для импортирования в семейство операционных систем Microsoft Windo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найти в свободном доступе в Интернете или в конц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ыходе получаем сертификат экспортированный в фай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вим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ign_cert.sh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д себ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OOTCA="tmp_org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 CA nam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имя файла с корневым сертификатом (без суффикса '-ca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O="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STU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# имя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C="RU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="NS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="NS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="AVT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разд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MAIL="email@tmp_org.ru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# 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BITS=20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# размер генерируемого ключа в би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CLIENT_DAYS=7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# срок валидности клиентского сертификата в дн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SERVER_DAYS=14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# срок валидности серверного сертификата в дн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уск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ертификат радиус-сер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/sign_cert.sh server_cert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dius.tmp_org.r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выполнения скрипта у нас должны появиться следующие фай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g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g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ервый файл является самим сертификатом сервера, второй файл – ключ которым подписан сертифи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84360" y="2565360"/>
            <a:ext cx="358920" cy="503280"/>
          </a:xfrm>
          <a:prstGeom prst="upArrow">
            <a:avLst>
              <a:gd name="adj1" fmla="val 50000"/>
              <a:gd name="adj2" fmla="val 35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2720" y="3357720"/>
            <a:ext cx="35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r_cer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_c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43280" y="2637000"/>
            <a:ext cx="503280" cy="576000"/>
          </a:xfrm>
          <a:prstGeom prst="upArrow">
            <a:avLst>
              <a:gd name="adj1" fmla="val 50000"/>
              <a:gd name="adj2" fmla="val 28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42920" y="3429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для эк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требуется вве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е на сертификат, если нужно 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Country Name (2 letter code) [RU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State or Province Name (full name)  [NSO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Locality Name (eg, city)  [NSK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. Organization Name (eg, company)  [NSTU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. Organizational Unit Name (eg, section)  [AVT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. Common Name (eg, CA name)  [pav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7. Email Address (eg, name@FQDN) [email@tmp_org.ru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оль сертификата сервера  - может потребоваться для отзы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ние сертификата кли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/sign_cert.sh client_cert test_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водим пароль ключа сертификата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потреб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оль для импорта 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у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ЗАБЫТЬ ЕЩЕ СПРОСЯТ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уч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2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g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g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radiu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g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ecur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Для импорта персонального сертификата 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soft W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indows, нас интересуют файл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test_user.p12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r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товка к запус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руем сертификат и закрытый ключ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директорию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dd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м новый фай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m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парамет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enssl dhparam 512 &gt;/etc/raddb/ssl/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nerating DH parameters, 512 bit long safe prime, gener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is going to take a lo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...............++*++*++*++*++*++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ем в 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d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чайную последовательность длиной 1024 бай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# dd if=/dev/urandom of=/etc/raddb/ssl/random count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+0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ord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+0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ords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тройк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diusd.con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#  Extensible Authentication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#  For all EAP related authent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#  Now in another file, because it is very lar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$INCLUDE ${co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fdir}/eap.co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ое изменение заносит  в главный конфигурационный файл сервера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RADIU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дрес файла конфигурации режимов работ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ents.co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 192.168.1.250/32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cret          = test12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ortname       = test_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3080" y="1130400"/>
            <a:ext cx="89456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Семейство продуктов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-Link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ir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lu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 802.11b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(расширени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DLINK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2122560"/>
            <a:ext cx="84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ширение стандар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IEEE 802.11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олностью совместим с устройствами стандарта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IEEE 802.11b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ает на частоте 2,4 ГГ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модуляцией Packet Binary Convolutional Coding (PBCCTM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зволяет достичь 20% увеличения производительности по сравнению с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IEEE 802.11b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держивае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рость соединения до 2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бит/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тройк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ap.co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ap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ls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# по-умолчанию, используем протоко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#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#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ls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123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# пароль, которым закрыт ключ серверного сертифи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ivate_key_file = ${raddbdir}/ssl/radius.tmp_org.ru.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путь к файлу с ключ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ertificate_file = ${raddbdir}/ssl/radius.tmp_org.ru.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путь к серверному сертифика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_file = /etc/ssl/tmp_org/tmp_org-ca.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# путь к корневому сертификату нашего центр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h_file = ${raddbdir}/ssl/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# путь к файлу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араметр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= ${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addbdir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}/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# путь к файлу со случайной последовательн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стройка аутентификатор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Point DLINK DWL210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62120" y="2173320"/>
            <a:ext cx="761976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тройка аутентифик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276200" y="1600200"/>
            <a:ext cx="6591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тройка кли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апускаем» фай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_usr.crt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же есть ассоци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3810240" cy="2924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238104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ействует новый метод шифрования (получивший название CCMP — Counter-Mode with CBC-MAC Protocol), основанный на более мощном, чем RC4, алгоритме шифров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Advanced Encryption Standar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уется на 2м уров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 (WP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3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два режим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PreShared Key — P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WPA2-P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жиме WPA2-Personal из введенной открытым текстом парольной фразы генер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6-разряд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юч, иногда именуемый предварительно распределяемым ключом (PreShared Key — PS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 PSK, а также идентификатор SSID (Service Set Identifier) и длина последнего вместе образуют математический базис для формирования главного парного ключа (Pairwise Master Key — PM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PA2 имеется три типа ключей PT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юч подтверждения ключа (Key Confirmation Key — KCK), применяющийся для проверки целостности ка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юч шифрования ключа (Key Encryption Key — KEK), используемый для шифрования группового временного ключа (Group Transient Key — GT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ременные ключи (Temporal Keys — TK) — для шифрования траф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A2 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ум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процессы перенесены на 2й уровень, то становится возможным реализация защищенного роумингового соединения- не было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варительная аутентификация позволяет мобильному клиенту аутентифицироваться на другой, расположенной поблизости точке доступа, оставаясь “привязанным” к своей первичной точке доступа. При применении кэширования PMK клиенту, вернувшемуся с обслуживаемой роумингом территории “домой”, не нужно выполнять полную процедуру повторной аутентификации 802.1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стандарта WPA2 лежит метод шифрования AES, пришедший на смену стандартам DES и 3DES в качестве отраслевого стандарта де-факто. Требующий большого объема вычислений, стандарт AES нуждается в аппаратной поддержке, которая не всегда имеется в старом оборудовании БЛВС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шифрования используется 128и разрядный вектор инициализации. Повтор вектора в рамках действующего ключа невозможен. Вектор передается также шифров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50920" y="1341360"/>
          <a:ext cx="8288280" cy="5295960"/>
        </p:xfrm>
        <a:graphic>
          <a:graphicData uri="http://schemas.openxmlformats.org/drawingml/2006/table">
            <a:tbl>
              <a:tblPr/>
              <a:tblGrid>
                <a:gridCol w="1711080"/>
                <a:gridCol w="1962360"/>
                <a:gridCol w="2176560"/>
                <a:gridCol w="2438280"/>
              </a:tblGrid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пт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е,легко вскрыва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равлены недостатк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есено на 2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,д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4 б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+24 би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 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фрова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128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фрова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E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,рас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еский ключ. Один и тот же ключ для всей с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еское распределение ключей: вплоть до один ключ на пак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люча для широковещания, распределения ключей, траф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55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,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marL="15559200" indent="803412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5559200"/>
                          <a:tab algn="l" pos="16473600"/>
                          <a:tab algn="l" pos="17388000"/>
                          <a:tab algn="l" pos="18302400"/>
                          <a:tab algn="l" pos="19216800"/>
                          <a:tab algn="l" pos="20131200"/>
                          <a:tab algn="l" pos="21045600"/>
                          <a:tab algn="l" pos="21960000"/>
                          <a:tab algn="l" pos="22874400"/>
                          <a:tab algn="l" pos="23788800"/>
                          <a:tab algn="l" pos="24703200"/>
                          <a:tab algn="l" pos="25617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 вводится вручную для каждого устр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 распределяется автоматичес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 распределяется автоматически, криптуется отдельным ключ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0480">
                <a:tc>
                  <a:txBody>
                    <a:bodyPr lIns="90000" rIns="90000" tIns="59040" bIns="46800" anchor="t">
                      <a:noAutofit/>
                    </a:bodyPr>
                    <a:p>
                      <a:pPr marL="20820240" indent="2773080"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0820240"/>
                          <a:tab algn="l" pos="21734640"/>
                          <a:tab algn="l" pos="22649040"/>
                          <a:tab algn="l" pos="23563440"/>
                          <a:tab algn="l" pos="24477840"/>
                          <a:tab algn="l" pos="25392240"/>
                          <a:tab algn="l" pos="26306640"/>
                          <a:tab algn="l" pos="27221040"/>
                          <a:tab algn="l" pos="28135440"/>
                          <a:tab algn="l" pos="29049840"/>
                          <a:tab algn="l" pos="29964240"/>
                          <a:tab algn="l" pos="30878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тентиф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20240" indent="2773080"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0820240"/>
                          <a:tab algn="l" pos="21734640"/>
                          <a:tab algn="l" pos="22649040"/>
                          <a:tab algn="l" pos="23563440"/>
                          <a:tab algn="l" pos="24477840"/>
                          <a:tab algn="l" pos="25392240"/>
                          <a:tab algn="l" pos="26306640"/>
                          <a:tab algn="l" pos="27221040"/>
                          <a:tab algn="l" pos="28135440"/>
                          <a:tab algn="l" pos="29049840"/>
                          <a:tab algn="l" pos="29964240"/>
                          <a:tab algn="l" pos="308786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я, на основ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P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X and E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marL="23283720" indent="309600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3283720"/>
                          <a:tab algn="l" pos="24198120"/>
                          <a:tab algn="l" pos="25112520"/>
                          <a:tab algn="l" pos="26026920"/>
                          <a:tab algn="l" pos="26941320"/>
                          <a:tab algn="l" pos="27855720"/>
                          <a:tab algn="l" pos="28770120"/>
                          <a:tab algn="l" pos="29684520"/>
                          <a:tab algn="l" pos="30598920"/>
                          <a:tab algn="l" pos="31513320"/>
                          <a:tab algn="l" pos="32427720"/>
                          <a:tab algn="l" pos="333421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X and E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283720" indent="309600"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3283720"/>
                          <a:tab algn="l" pos="24198120"/>
                          <a:tab algn="l" pos="25112520"/>
                          <a:tab algn="l" pos="26026920"/>
                          <a:tab algn="l" pos="26941320"/>
                          <a:tab algn="l" pos="27855720"/>
                          <a:tab algn="l" pos="28770120"/>
                          <a:tab algn="l" pos="29684520"/>
                          <a:tab algn="l" pos="30598920"/>
                          <a:tab algn="l" pos="31513320"/>
                          <a:tab algn="l" pos="32427720"/>
                          <a:tab algn="l" pos="33342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2480" y="1074600"/>
            <a:ext cx="89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新細明體"/>
              </a:rPr>
              <a:t>Стандарты  беспроводных сетей -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EEE 802.11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1773360"/>
            <a:ext cx="8816760" cy="47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2680" indent="-3826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Обратная совместимость с устройствами стандар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IEEE 802.11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Работает на частоте 2.4 ГГ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Используется метод прямой последовательности с разнесением сигнала по широкому диапазону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DSS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) и метод мультиплексирования с ортогональным делением частот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OFD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Скорость соединения до 54 Мбит/с, автоматический или фиксированный выбор скор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382680"/>
                <a:tab algn="l" pos="1297080"/>
                <a:tab algn="l" pos="2211480"/>
                <a:tab algn="l" pos="3125880"/>
                <a:tab algn="l" pos="4040280"/>
                <a:tab algn="l" pos="4954680"/>
                <a:tab algn="l" pos="5869080"/>
                <a:tab algn="l" pos="6783480"/>
                <a:tab algn="l" pos="7697880"/>
                <a:tab algn="l" pos="8612280"/>
                <a:tab algn="l" pos="9526680"/>
                <a:tab algn="l" pos="10441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新細明體"/>
              </a:rPr>
              <a:t>Защита данных при помощ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WPA (Wi Fi Protected Access), 802.1x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PA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имеющееся в наличии оборудование поддержива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2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, некоторое допускает модернизацию «прошивки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2 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нный программно, требует дополнительных вычислительных мощ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нклатура аппаратных микросхе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статоч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используйте «настройки» по умолчанию, даже когда вы тестируете Ваше соеди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айтесь использов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сех случа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беспечения высокого уровня защиты используй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(2)+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вер аутент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кст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ign_cert.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!/bin/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# sign_cert.sh - Create/Sign/Revoke a SSL certific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# by eigh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# /original idea from sign.sh script by Ralf S. Engelschall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  argument line hand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ODE=$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SR=$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OOTCA="tmp_or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root CA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="TempOr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="RU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T="Euro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="Moscow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U="network I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MAIL="email@tmp_org.ru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ITS=20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IENT_DAYS=7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RVER_DAYS=14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RL_DAYS=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OOTCA=${ROOTCA}-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IGN_CA=$ROOT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A_CONFIG="ca.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IENT_PURPOSES="digitalSignature, keyEncipher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IENT_CERTTYPE="client, email, objsig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unction usag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"Usage: sign_cert.sh &lt;mode&gt; [&lt;common_name&gt;[.csr]]"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"mode is &lt;client_cert&gt;, &lt;server_cert&gt;, &lt;revoke&gt;, &lt;regen_crl&gt;"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$# -eq 1 ] &amp;&amp; [ "$MODE" != "regen_crl" ] 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xi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$# -lt 1 ] || [ $# -gt 2 ] 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us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xi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$# -eq 2 ] &amp;&amp; [ "$MODE" != "client_cert" ] &amp;&amp; [ "$MODE" != "server_cert" ] &amp;&amp; [ "$MODE" != "revoke_cert" ] 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"invalid mode string"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"mode is &lt;client_cert&gt;, &lt;server_cert&gt;, &lt;revoke&gt;"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xi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ase $CSR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*.csr )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ERT="`echo $CSR | sed -e 's/\.csr/.crt/'`"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AME="`echo $CSR | sed -e 's/\.csr//'`" ;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* )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ERT="$CSR.crt"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AME="$CSR";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SR="${CSR}.csr" ;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s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  make sure environment ex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! -d ca.db.certs ]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kdir ca.db.ce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! -d certificates ]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kdir certif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hmod 700 certif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! -f ca.db.serial ]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'01' &gt;ca.db.s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! -f ca.db.index ]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p /dev/null ca.db.ind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d certif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create CA 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unction create_ca_config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at &gt;$CA_CONFIG &lt;&lt;E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req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fault_bits = $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istinguished_name = req_D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req_DN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untryName = "1. Country Name (2 letter code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untryName_default = "$C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untryName_min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untryName_max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tateOrProvinceName = "2. State or Province Name (full name) 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tateOrProvinceName_default = "$S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ocalityName = "3. Locality Name (eg, city) 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ocalityName_default = "$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0.organizationName = "4. Organization Name (eg, company) 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0.organizationName_default = "$O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ganizationalUnitName = "5. Organizational Unit Name (eg, section) 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ganizationalUnitName_default = "$OU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monName = "6. Common Name (eg, CA name) 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monName_max = 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monName_default = "$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mailAddress = "7. Email Address (eg, name@FQDN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mailAddress_max = 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mailAddress_default = "$EMAI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ca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fault_ca              = CA_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CA_own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ir                     = ./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certs                   = \$d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erts                   =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ew_certs_dir           = \$dir/ca.db.ce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atabase                = \$dir/ca.db.ind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rial                  = \$dir/ca.db.s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ANDFILE                = \$dir/ca.db.r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ertificate             = \$dir/${SIGN_CA}.c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ivate_key             = \$dir/${SIGN_CA}.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fault_days            = $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fault_crl_days        = $CRL_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fault_md              = md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eserve                = 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olicy                  = policy_anyt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unique_subject          = 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policy_anything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untryName           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tateOrProvinceName   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ocalityName          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ganizationName      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ganizationalUnitName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monName              = suppl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mailAddress          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xpclient_ext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xtendedKeyUsage        = 1.3.6.1.5.5.7.3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for EAP/TLS (radius) - winxp cl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xpserver_ext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xtendedKeyUsage        = 1.3.6.1.5.5.7.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for EAP/TLS (radius) - radiu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v3_req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asicConstraints = CA: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keyUsage = $CLIENT_PURPO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sCertType = $CLIENT_CERT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do not allow client use own certificate for own CA cen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generate server or user vertific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unction generate_cer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create certificate key: ${NAME}.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penssl genrsa -des3 -out ${NAME}.key $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"$MODE" = "server_cert" ] 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decrypt certificate key: ${CERT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penssl rsa -in ${NAME}.key -out ${NAME}.key.unsec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ase $MODE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ient_cert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AYS=$CLIENT_DAYS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;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rver_cert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AYS=$CLIENT_DAYS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;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*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AYS=$SERVER_DAYS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;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s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 create an client SSLeay 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at &gt; $CA_CONFIG &lt;&lt;E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req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fault_bits = $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istinguished_name = req_D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req_DN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untryName = "1. Country Name (2 letter code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untryName_default = "$C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untryName_min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untryName_max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tateOrProvinceName = "2. State or Province Name (full name) 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tateOrProvinceName_default = "$S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ocalityName = "3. Locality Name (eg, city) 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ocalityName_default = "$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0.organizationName = "4. Organization Name (eg, company) 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0.organizationName_default = "$O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ganizationalUnitName = "5. Organizational Unit Name (eg, section) 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ganizationalUnitName_default = "$OU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monName = "6. Common Name (eg, CA name) 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monName_max = 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monName_default = "$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mailAddress = "7. Email Address (eg, name@FQDN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mailAddress_max = 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mailAddress_default = "$EMAI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ca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fault_ca              = CA_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CA_own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ir                     = ./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certs                   = \$d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erts                   =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ew_certs_dir           = \$dir/ca.db.ce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atabase                = \$dir/ca.db.ind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rial                  = \$dir/ca.db.s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ANDFILE                = \$dir/ca.db.r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ertificate             = \$dir/${ROOTCA}.c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ivate_key             = \$dir/${ROOTCA}.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fault_days            = $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fault_crl_days        = $CRL_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fault_md              = md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eserve                = 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olicy                  = policy_anyt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unique_subject          = 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policy_anything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untryName           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tateOrProvinceName   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ocalityName          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ganizationName      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ganizationalUnitName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monName              = suppl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mailAddress            = op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xpclient_ext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xtendedKeyUsage        = 1.3.6.1.5.5.7.3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for EAP/TLS (radius) - winxp cl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[ xpserver_ext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extendedKeyUsage        = 1.3.6.1.5.5.7.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for EAP/TLS (radius) - radiu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[ v3_req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asicConstraints = CA: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keyUsage = $CLIENT_PURPO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sCertType = $CLIENT_CERT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do not allow client use own certificate for own CA cen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create certificate request: ${NAME}.cs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ase $MODE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ient_cert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penssl req -new -key ${NAME}.key -config $CA_CONFIG -extensions v3_req -out ${NAME}.csr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;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rver_cert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penssl req -new -key ${NAME}.key -config $CA_CONFIG -out ${NAME}.csr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;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s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$? -ne 0 ]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"Failed to make a certificate req due to error: $?"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xit $?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sign certificate by CA: ${CERT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\(sign ca is: $SIGN_CA\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  create an own SSLeay 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create_ca_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 sign the certific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"CA signing: $NAME.csr -&gt; $CERT: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ase $MODE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lient_cert 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penssl ca -config $CA_CONFIG -batch -out $CERT -extensions xpclient_ext -infiles ${NAME}.cs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;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rver_cert 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penssl ca -config $CA_CONFIG -batch -out $CERT -extensions xpserver_ext -infiles ${NAME}.cs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openssl ca -config $CA_CONFIG -batch -out $CERT -infiles ${NAME}.cs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;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s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$? -ne 0 ]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"Failed to sign a certificate due to error: $?"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xit $?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"$MODE" == "client_cert" ] 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convertign ${NAME} certificate to pkcs12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penssl pkcs12 -export -in ${NAME}.crt -inkey ${NAME}.key -certfile ../${ROOTCA}.crt -out ${NAME}.p1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create p12 format of certific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openssl ca -config ca.config -out $CERT -infiles ${NAME}.cs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"CA verifying: $CERT &lt;-&gt; CA cer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echo openssl verify -CAfile ${ROOTCA}.crt $C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penssl verify -CAfile ../${ROOTCA}.crt $C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end of cert_ge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unction regen_cr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regen c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penssl ca -config $CA_CONFIG -gencrl -out ../${ROOTCA}.c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unction revoke_cer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 revoke certificate $C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penssl ca -config $CA_CONFIG -revoke $C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egen_c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"$MODE" == "client_cert" ] || [ "$MODE" == "server_cert" ] 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enerate_c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"$MODE" == "revoke_cert" ] 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reate_ca_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evoke_c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f [ "$MODE" == "regen_crl" ] ;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reate_ca_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egen_c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#  cleanup after SSLea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m -f ca.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m -f ${NAME}.cs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m -f ../ca.db.serial.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m -f ../ca.db.index.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cd 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#  die gracefu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exit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__</cp:lastModifiedBy>
  <dcterms:modified xsi:type="dcterms:W3CDTF">2010-01-19T16:32:1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